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792-922D-49B4-8245-67990AFC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A48-C0B2-4BA5-8187-96565A31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8CC-E907-43D3-B95E-F6AE3F64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2CE-343F-47CD-81C7-9C2E227C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CA52-AF44-4C0F-B0A3-B10E9CA8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9953-E196-4E71-9955-574CDADD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861D-AA64-4EE8-956D-2081EFE4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F6D1-64A3-40FC-997A-E4482782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1D03-A337-4E50-8438-DCEBF62B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AD8F-FB86-4A0B-92B6-33336D0A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2086-5116-4862-AE9B-608D9627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EE7-17ED-4426-8E82-1E0FB04E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8EA1-668A-4170-9057-38157ED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59E5-EF01-4775-AAAE-667DFC2E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CC93-584D-420A-BDE0-72C270D5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7FED-2325-4B44-9148-69E812CC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AF0E-D891-486C-89F9-B6B1DE7F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F01-7F5E-43D3-A387-FEF4088E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FEC-7CCF-4D14-9F3B-9C2507F9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20F-D975-4ED6-B296-57F9BC54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8D5-AF25-4643-8D6D-B0EB66D6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CD8-DAED-495C-9BFD-0B35ACB4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39E-73C4-43A9-B77A-86A23F1E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68C-92CD-464E-B0AD-25DC25B7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FCA0-4756-4E7E-A4EC-6ACB64EDA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A9D3-84D4-42DA-91D1-B2306C120C22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2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2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2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2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2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2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2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2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2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2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.xml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19368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3" name="Picture 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19368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5" name="Picture 1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3"/>
          <p:cNvSpPr/>
          <p:nvPr/>
        </p:nvSpPr>
        <p:spPr>
          <a:xfrm>
            <a:off x="19368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7" name="Picture 1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2"/>
          <p:cNvSpPr/>
          <p:nvPr/>
        </p:nvSpPr>
        <p:spPr>
          <a:xfrm>
            <a:off x="19368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9" name="Picture 21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5"/>
          <p:cNvSpPr/>
          <p:nvPr/>
        </p:nvSpPr>
        <p:spPr>
          <a:xfrm>
            <a:off x="19368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WordArt 25"/>
          <p:cNvSpPr txBox="1"/>
          <p:nvPr/>
        </p:nvSpPr>
        <p:spPr>
          <a:xfrm>
            <a:off x="2057400" y="1530360"/>
            <a:ext cx="6095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come to My Portfolio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WordArt 26"/>
          <p:cNvSpPr txBox="1"/>
          <p:nvPr/>
        </p:nvSpPr>
        <p:spPr>
          <a:xfrm>
            <a:off x="3403440" y="2781360"/>
            <a:ext cx="2337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ane Do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00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206280"/>
            <a:ext cx="487692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Klang MT"/>
              </a:rPr>
              <a:t>All About M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0880" y="1076400"/>
            <a:ext cx="3956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Middle Schoo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Love to swim, read, play soft bal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I like math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I play the flut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I enjoy tacos, pizza, and ice cream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I have 2 brothers, 1 sister, mom, dad, and a do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7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9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1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3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5" name="Picture 14" descr=""/>
          <p:cNvPicPr/>
          <p:nvPr/>
        </p:nvPicPr>
        <p:blipFill>
          <a:blip r:embed="rId18"/>
          <a:stretch/>
        </p:blipFill>
        <p:spPr>
          <a:xfrm>
            <a:off x="5829480" y="1076400"/>
            <a:ext cx="29718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0" y="3265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Klang MT"/>
              </a:rPr>
              <a:t>Note to Viewer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2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9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1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3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5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400" y="152388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Klang MT"/>
              </a:rPr>
              <a:t>I hope you enjoy my portfolio. It is a snapshot of me at this point in time. I tried to include some of my best work and some of my favorite things. My favorite project is the PowerPoint on Africa that I completed with my group. I also included a poem I wrote. Add your comments at the end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Klang MT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Klang MT"/>
              </a:rPr>
              <a:t>Thanks.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32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Klang MT"/>
              </a:rPr>
              <a:t>Projects</a:t>
            </a:r>
            <a:br>
              <a:rPr sz="4400"/>
            </a:br>
            <a:r>
              <a:rPr b="0" lang="en-US" sz="2800" spc="-1" strike="noStrike">
                <a:solidFill>
                  <a:srgbClr val="ff00ff"/>
                </a:solidFill>
                <a:latin typeface="Klang MT"/>
              </a:rPr>
              <a:t>Each of these is a link to another document.</a:t>
            </a:r>
            <a:endParaRPr b="0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3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1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3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5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7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46000" y="1854360"/>
            <a:ext cx="3359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Poem </a:t>
            </a:r>
            <a:r>
              <a:rPr b="0" lang="en-US" sz="1400" spc="-1" strike="noStrike">
                <a:solidFill>
                  <a:srgbClr val="660066"/>
                </a:solidFill>
                <a:latin typeface="Klang MT"/>
              </a:rPr>
              <a:t>(I chose this because I like to write and this is one of my favorite pieces.)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Math Problem Solving </a:t>
            </a:r>
            <a:r>
              <a:rPr b="0" lang="en-US" sz="1800" spc="-1" strike="noStrike">
                <a:solidFill>
                  <a:srgbClr val="660066"/>
                </a:solidFill>
                <a:latin typeface="Klang MT"/>
              </a:rPr>
              <a:t>(I solved these problems for a direct math assessment.)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Africa</a:t>
            </a:r>
            <a:r>
              <a:rPr b="0" lang="en-US" sz="1800" spc="-1" strike="noStrike">
                <a:solidFill>
                  <a:srgbClr val="660066"/>
                </a:solidFill>
                <a:latin typeface="Klang MT"/>
              </a:rPr>
              <a:t> (I completed this assignment with a group. We all had responsibilities and worked very well together.)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05160" y="185436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Reading </a:t>
            </a:r>
            <a:r>
              <a:rPr b="0" lang="en-US" sz="1800" spc="-1" strike="noStrike">
                <a:solidFill>
                  <a:srgbClr val="660066"/>
                </a:solidFill>
                <a:latin typeface="Klang MT"/>
              </a:rPr>
              <a:t>(When you go here, you will hear my voice reading a passage from a play.)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Science</a:t>
            </a:r>
            <a:r>
              <a:rPr b="0" lang="en-US" sz="1800" spc="-1" strike="noStrike">
                <a:solidFill>
                  <a:srgbClr val="660066"/>
                </a:solidFill>
                <a:latin typeface="Klang MT"/>
              </a:rPr>
              <a:t> (This is a picture of a display I put together for an experiment I conducted in the lab. I earned an A, but must admit I did not agree with everyone else’s conclusion.)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0920" y="326520"/>
            <a:ext cx="71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Klang MT"/>
              </a:rPr>
              <a:t>Viewer Comments</a:t>
            </a:r>
            <a:br>
              <a:rPr sz="4400"/>
            </a:br>
            <a:r>
              <a:rPr b="0" lang="en-US" sz="3200" spc="-1" strike="noStrike">
                <a:solidFill>
                  <a:srgbClr val="ff00ff"/>
                </a:solidFill>
                <a:latin typeface="Klang MT"/>
              </a:rPr>
              <a:t>For this slide, go to slide view to add comments.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5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54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56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58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0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057400" y="202572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I enjoyed your portfolio. I especially thought your poem was creative. Mrs. Harrison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057400" y="278280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You are definitely a mathematician. Your math problem was hard. Mr. Johnson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2057400" y="37018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Thank you for letting me get to know you a little. Mr. Beal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Klang MT"/>
              </a:rPr>
              <a:t>Goal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0920" y="1720800"/>
            <a:ext cx="70866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Klang MT"/>
              </a:rPr>
              <a:t>Prepare for college the best way I know how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Klang MT"/>
              </a:rPr>
              <a:t>Improve my grades by spending more time on homework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69840" y="202572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Klang MT"/>
              </a:rPr>
              <a:t>Meet M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1" name="Picture 8" descr=""/>
          <p:cNvPicPr/>
          <p:nvPr/>
        </p:nvPicPr>
        <p:blipFill>
          <a:blip r:embed="rId5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69840" y="313380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Klang MT"/>
              </a:rPr>
              <a:t>Projec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6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69840" y="408312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Klang MT"/>
              </a:rPr>
              <a:t>Goal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7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3"/>
          <p:cNvSpPr/>
          <p:nvPr/>
        </p:nvSpPr>
        <p:spPr>
          <a:xfrm>
            <a:off x="69840" y="4826160"/>
            <a:ext cx="17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Klang MT"/>
              </a:rPr>
              <a:t>Viewer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Klang MT"/>
              </a:rPr>
              <a:t>Commen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05:58:20Z</dcterms:created>
  <dc:creator>New Century Classroom</dc:creator>
  <dc:description/>
  <dc:language>en-US</dc:language>
  <cp:lastModifiedBy>helen</cp:lastModifiedBy>
  <dcterms:modified xsi:type="dcterms:W3CDTF">2011-03-23T15:33:58Z</dcterms:modified>
  <cp:revision>8</cp:revision>
  <dc:subject/>
  <dc:title>PowerPoint Presentation</dc:title>
</cp:coreProperties>
</file>